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A0D1-D04C-4D8D-B6A9-A79E81C976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944C-0A5A-4D37-AA84-B7970E70E32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3C24-8B02-4D58-8D5B-9CA30755C5F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587-F438-4315-8918-7DBB0231DE6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AE5F-67EB-4596-81C7-9A4236E8338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494-7888-4E6F-98FC-CD896F28E804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E0FCC-EAD4-409C-9A3F-67A02601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09A36-081B-49C1-A504-0CC95EAB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D21EBA-4D1F-4DD9-9351-E2D0D1AF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B04131-DC36-444C-9437-4E506DC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35BF4-81B9-40C6-8FBD-4B23A20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F7EBF-4322-4657-AFCF-C1C94E9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865C5-ED16-4143-94E1-5D49CA9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33257-6E6B-463A-92FE-1E9BDF0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2241B-A65D-406F-A243-DFC8766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489C6-5E7C-43DD-A564-B289AB43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A5761-8BD1-447E-B7BC-EB1C0A4E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0EACF-EA61-425B-A623-29A25D71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FABF3-7E0C-48DD-B1A9-6D7AF04C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92D68-09D6-4D22-8E46-87E1EB8F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FAD05-AF94-4221-84B9-6E744F2E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534AD-9125-475D-84A4-19D80470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AAA21-8390-4C91-BF9B-2D782BD5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DACE2-6CC7-472E-B3CD-95F0AA65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4AC9C4-0CB0-427C-AEB6-6A1E201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2AE0F-B16C-4082-84CB-A431A4D6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1893E-AF0B-41DE-BB02-3D83EC0A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6A83E-0877-4E90-A226-09414EFD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E6894-2A6B-4D9F-945E-A2CC3533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9E434B-39C5-453F-A74F-B7E169FE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D372BE-F323-4DB5-BF19-72897EBF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927E4-DAB8-44E5-9BCB-300E121D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696F6-B79C-46E5-A44D-C0EE606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13CEF-C739-4DF3-B52C-68A7E847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9FA83-0CDF-4ECD-83E1-A2004650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6FF019-E8D1-4F05-B852-F12ECF1A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88528-41EA-4F14-8911-10DE354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67A56-6F44-4E69-9DD0-F4684D2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EFE4B-75A1-4C2E-AD9A-CCA6D70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1EDC1-0295-4A45-8796-A7B650E3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BD223-04D7-44CB-BDB8-3AF1422B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62886-2EB0-4244-9223-01D3CF9D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37C32-5C84-4B80-80FC-887DD047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CEB6-19D9-45C2-BBC3-B49CDB08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5654-2434-4662-A6CE-D94A4FD8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1A20-121A-4CCD-8AB0-B3B10EA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BC40-92A9-433A-A468-094164C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33A2-5FC3-45B9-80F8-98A3CBBB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42ED-2D5A-4F55-8110-D2A2251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86BAE-75D2-45D4-9847-E24A9F4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F73D4-7A8E-4C2A-A219-8F8AD42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E190E-C61B-4C3F-AA22-E4E5B670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08C3-C072-4A18-BC56-0E54C26F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E0A3C-E371-402F-A0E1-E5A29AD8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C592-93CD-4EEB-B8F8-4957133418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FE80-FAF3-479E-805D-1CCAB4B9B35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B662-FEBC-4CB4-B920-B03FCEA75503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8408-DADF-4BFC-8941-DDD99C8A8B3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CA0-8A8E-403E-A44E-113CAA6908F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2DE4-3B91-4FF0-9BF0-316A037E51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F8D-E736-4C5C-9BB7-78AA1334C55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309-B7CF-47DF-8E40-13DCB220226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758-289A-41AE-8CD9-F66C516D6BEC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11C9-A168-42E2-BB4E-0A6D72AC456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54C3-39AD-4D12-9392-18C11BDA447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FF43-1D77-42EF-BC68-4DE7535B85E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D71-954D-43C4-BBD3-A01F94047C5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6106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313-921B-4923-A5CB-0693777199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757-D33F-4DA3-AD49-8F6A84BE7AE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0C0-DEC4-40FC-BB99-330C3D6EE55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121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7FE7-9408-4FB1-9D59-AB2DEFA9D4D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2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그룹 13"/>
          <p:cNvGrpSpPr/>
          <p:nvPr/>
        </p:nvGrpSpPr>
        <p:grpSpPr>
          <a:xfrm>
            <a:off x="71280" y="0"/>
            <a:ext cx="9001440" cy="6428880"/>
            <a:chOff x="71280" y="0"/>
            <a:chExt cx="9001440" cy="6428880"/>
          </a:xfrm>
        </p:grpSpPr>
        <p:sp>
          <p:nvSpPr>
            <p:cNvPr id="1038" name="AutoShape 2"/>
            <p:cNvSpPr/>
            <p:nvPr/>
          </p:nvSpPr>
          <p:spPr>
            <a:xfrm>
              <a:off x="71280" y="500040"/>
              <a:ext cx="9001440" cy="114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2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214272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1714320"/>
              <a:ext cx="8787240" cy="2190960"/>
              <a:chOff x="213840" y="1714320"/>
              <a:chExt cx="8787240" cy="219096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228708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의 주요 서비스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서비스와 간접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6" name="AutoShape 2"/>
            <p:cNvSpPr/>
            <p:nvPr/>
          </p:nvSpPr>
          <p:spPr>
            <a:xfrm>
              <a:off x="71280" y="442872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7" name="그룹 10"/>
            <p:cNvGrpSpPr/>
            <p:nvPr/>
          </p:nvGrpSpPr>
          <p:grpSpPr>
            <a:xfrm>
              <a:off x="213840" y="3928680"/>
              <a:ext cx="8787240" cy="2494800"/>
              <a:chOff x="213840" y="3928680"/>
              <a:chExt cx="8787240" cy="2494800"/>
            </a:xfrm>
          </p:grpSpPr>
          <p:sp>
            <p:nvSpPr>
              <p:cNvPr id="1048" name="AutoShape 4"/>
              <p:cNvSpPr/>
              <p:nvPr/>
            </p:nvSpPr>
            <p:spPr>
              <a:xfrm>
                <a:off x="285120" y="392868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9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그룹 7"/>
          <p:cNvGrpSpPr/>
          <p:nvPr/>
        </p:nvGrpSpPr>
        <p:grpSpPr>
          <a:xfrm>
            <a:off x="0" y="0"/>
            <a:ext cx="9325080" cy="6215040"/>
            <a:chOff x="0" y="0"/>
            <a:chExt cx="9325080" cy="6215040"/>
          </a:xfrm>
        </p:grpSpPr>
        <p:pic>
          <p:nvPicPr>
            <p:cNvPr id="10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3" name="그룹 20"/>
            <p:cNvGrpSpPr/>
            <p:nvPr/>
          </p:nvGrpSpPr>
          <p:grpSpPr>
            <a:xfrm>
              <a:off x="285480" y="1785960"/>
              <a:ext cx="9039600" cy="4429080"/>
              <a:chOff x="285480" y="1785960"/>
              <a:chExt cx="9039600" cy="4429080"/>
            </a:xfrm>
          </p:grpSpPr>
          <p:sp>
            <p:nvSpPr>
              <p:cNvPr id="1054" name="AutoShape 2"/>
              <p:cNvSpPr/>
              <p:nvPr/>
            </p:nvSpPr>
            <p:spPr>
              <a:xfrm>
                <a:off x="285480" y="1785960"/>
                <a:ext cx="875124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5" name="Text Box 25"/>
              <p:cNvSpPr/>
              <p:nvPr/>
            </p:nvSpPr>
            <p:spPr>
              <a:xfrm>
                <a:off x="428040" y="1896840"/>
                <a:ext cx="889704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성담론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뿐만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성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6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8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9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0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2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63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4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5" name="Text Box 6"/>
              <p:cNvSpPr/>
              <p:nvPr/>
            </p:nvSpPr>
            <p:spPr>
              <a:xfrm>
                <a:off x="357120" y="3136680"/>
                <a:ext cx="850140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8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9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0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 각각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71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그룹 10"/>
          <p:cNvGrpSpPr/>
          <p:nvPr/>
        </p:nvGrpSpPr>
        <p:grpSpPr>
          <a:xfrm>
            <a:off x="0" y="0"/>
            <a:ext cx="9501120" cy="6357240"/>
            <a:chOff x="0" y="0"/>
            <a:chExt cx="9501120" cy="6357240"/>
          </a:xfrm>
        </p:grpSpPr>
        <p:pic>
          <p:nvPicPr>
            <p:cNvPr id="10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5" name="그룹 34"/>
            <p:cNvGrpSpPr/>
            <p:nvPr/>
          </p:nvGrpSpPr>
          <p:grpSpPr>
            <a:xfrm>
              <a:off x="251280" y="1785600"/>
              <a:ext cx="8678160" cy="4571640"/>
              <a:chOff x="251280" y="1785600"/>
              <a:chExt cx="8678160" cy="457164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2384280"/>
                <a:ext cx="8643960" cy="397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8" name="Text Box 6"/>
              <p:cNvSpPr/>
              <p:nvPr/>
            </p:nvSpPr>
            <p:spPr>
              <a:xfrm>
                <a:off x="251280" y="2594520"/>
                <a:ext cx="86439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할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엄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 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00b0f0"/>
                    </a:solidFill>
                    <a:latin typeface="HY강M"/>
                    <a:ea typeface="HY강M"/>
                  </a:rPr>
                  <a:t>청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적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00b050"/>
                    </a:solidFill>
                    <a:latin typeface="HY강M"/>
                    <a:ea typeface="HY강M"/>
                  </a:rPr>
                  <a:t>녹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생활노인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증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9" name="그룹 15"/>
            <p:cNvGrpSpPr/>
            <p:nvPr/>
          </p:nvGrpSpPr>
          <p:grpSpPr>
            <a:xfrm>
              <a:off x="285480" y="785520"/>
              <a:ext cx="8643960" cy="856800"/>
              <a:chOff x="285480" y="785520"/>
              <a:chExt cx="8643960" cy="856800"/>
            </a:xfrm>
          </p:grpSpPr>
          <p:sp>
            <p:nvSpPr>
              <p:cNvPr id="1080" name="AutoShape 2"/>
              <p:cNvSpPr/>
              <p:nvPr/>
            </p:nvSpPr>
            <p:spPr>
              <a:xfrm>
                <a:off x="285480" y="785520"/>
                <a:ext cx="8643960" cy="856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1" name="Text Box 6"/>
              <p:cNvSpPr/>
              <p:nvPr/>
            </p:nvSpPr>
            <p:spPr>
              <a:xfrm>
                <a:off x="428040" y="799920"/>
                <a:ext cx="828684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제도 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83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4" name="그룹 10"/>
            <p:cNvGrpSpPr/>
            <p:nvPr/>
          </p:nvGrpSpPr>
          <p:grpSpPr>
            <a:xfrm>
              <a:off x="285480" y="142920"/>
              <a:ext cx="8715600" cy="6105960"/>
              <a:chOff x="285480" y="142920"/>
              <a:chExt cx="8715600" cy="6105960"/>
            </a:xfrm>
          </p:grpSpPr>
          <p:sp>
            <p:nvSpPr>
              <p:cNvPr id="1085" name="AutoShape 4"/>
              <p:cNvSpPr/>
              <p:nvPr/>
            </p:nvSpPr>
            <p:spPr>
              <a:xfrm>
                <a:off x="285480" y="142920"/>
                <a:ext cx="41436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6"/>
              <p:cNvSpPr/>
              <p:nvPr/>
            </p:nvSpPr>
            <p:spPr>
              <a:xfrm>
                <a:off x="285480" y="1095480"/>
                <a:ext cx="8715600" cy="515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geism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정관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tereotyp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rejudice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iscrimination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차별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지식과 기술의 낙후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그룹 29"/>
          <p:cNvGrpSpPr/>
          <p:nvPr/>
        </p:nvGrpSpPr>
        <p:grpSpPr>
          <a:xfrm>
            <a:off x="179280" y="27000"/>
            <a:ext cx="8964720" cy="6402240"/>
            <a:chOff x="179280" y="27000"/>
            <a:chExt cx="8964720" cy="6402240"/>
          </a:xfrm>
        </p:grpSpPr>
        <p:grpSp>
          <p:nvGrpSpPr>
            <p:cNvPr id="1088" name="그룹 18"/>
            <p:cNvGrpSpPr/>
            <p:nvPr/>
          </p:nvGrpSpPr>
          <p:grpSpPr>
            <a:xfrm>
              <a:off x="179280" y="27000"/>
              <a:ext cx="8964720" cy="984240"/>
              <a:chOff x="179280" y="27000"/>
              <a:chExt cx="8964720" cy="98424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8160" y="571320"/>
                <a:ext cx="881784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25"/>
              <p:cNvSpPr/>
              <p:nvPr/>
            </p:nvSpPr>
            <p:spPr>
              <a:xfrm>
                <a:off x="291960" y="642960"/>
                <a:ext cx="885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AutoShape 4"/>
              <p:cNvSpPr/>
              <p:nvPr/>
            </p:nvSpPr>
            <p:spPr>
              <a:xfrm>
                <a:off x="179280" y="27000"/>
                <a:ext cx="373212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92" name="그룹 11"/>
            <p:cNvGrpSpPr/>
            <p:nvPr/>
          </p:nvGrpSpPr>
          <p:grpSpPr>
            <a:xfrm>
              <a:off x="214920" y="1000080"/>
              <a:ext cx="8856000" cy="1055520"/>
              <a:chOff x="214920" y="1000080"/>
              <a:chExt cx="8856000" cy="1055520"/>
            </a:xfrm>
          </p:grpSpPr>
          <p:sp>
            <p:nvSpPr>
              <p:cNvPr id="1093" name="AutoShape 2"/>
              <p:cNvSpPr/>
              <p:nvPr/>
            </p:nvSpPr>
            <p:spPr>
              <a:xfrm>
                <a:off x="215640" y="1356480"/>
                <a:ext cx="885528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4" name="Text Box 6"/>
              <p:cNvSpPr/>
              <p:nvPr/>
            </p:nvSpPr>
            <p:spPr>
              <a:xfrm>
                <a:off x="214920" y="1356840"/>
                <a:ext cx="87832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노인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5" name="직사각형 17"/>
              <p:cNvSpPr/>
              <p:nvPr/>
            </p:nvSpPr>
            <p:spPr>
              <a:xfrm>
                <a:off x="214920" y="1000080"/>
                <a:ext cx="5783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6" name="AutoShape 2"/>
            <p:cNvSpPr/>
            <p:nvPr/>
          </p:nvSpPr>
          <p:spPr>
            <a:xfrm>
              <a:off x="288000" y="2428920"/>
              <a:ext cx="885600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7" name="Text Box 6"/>
            <p:cNvSpPr/>
            <p:nvPr/>
          </p:nvSpPr>
          <p:spPr>
            <a:xfrm>
              <a:off x="288720" y="2428920"/>
              <a:ext cx="878220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에서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8" name="직사각형 24"/>
            <p:cNvSpPr/>
            <p:nvPr/>
          </p:nvSpPr>
          <p:spPr>
            <a:xfrm>
              <a:off x="215640" y="2071440"/>
              <a:ext cx="5781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9" name="그룹 15"/>
            <p:cNvGrpSpPr/>
            <p:nvPr/>
          </p:nvGrpSpPr>
          <p:grpSpPr>
            <a:xfrm>
              <a:off x="288000" y="4929120"/>
              <a:ext cx="8856000" cy="1500120"/>
              <a:chOff x="288000" y="4929120"/>
              <a:chExt cx="8856000" cy="150012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288000" y="5288040"/>
                <a:ext cx="885600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1" name="Text Box 6"/>
              <p:cNvSpPr/>
              <p:nvPr/>
            </p:nvSpPr>
            <p:spPr>
              <a:xfrm>
                <a:off x="288360" y="5295600"/>
                <a:ext cx="885564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9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베이비붐 세대가 노인이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면 노인권익운동이 활성화될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2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직사각형 28"/>
              <p:cNvSpPr/>
              <p:nvPr/>
            </p:nvSpPr>
            <p:spPr>
              <a:xfrm>
                <a:off x="288360" y="4929120"/>
                <a:ext cx="578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3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4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옴부즈맨제도가 대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8" name="그룹 11"/>
            <p:cNvGrpSpPr/>
            <p:nvPr/>
          </p:nvGrpSpPr>
          <p:grpSpPr>
            <a:xfrm>
              <a:off x="214200" y="1217520"/>
              <a:ext cx="8715600" cy="5091120"/>
              <a:chOff x="214200" y="1217520"/>
              <a:chExt cx="8715600" cy="5091120"/>
            </a:xfrm>
          </p:grpSpPr>
          <p:sp>
            <p:nvSpPr>
              <p:cNvPr id="1109" name="AutoShape 2"/>
              <p:cNvSpPr/>
              <p:nvPr/>
            </p:nvSpPr>
            <p:spPr>
              <a:xfrm>
                <a:off x="214200" y="1556280"/>
                <a:ext cx="871560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0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1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13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4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6-327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5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그룹 10"/>
          <p:cNvGrpSpPr/>
          <p:nvPr/>
        </p:nvGrpSpPr>
        <p:grpSpPr>
          <a:xfrm>
            <a:off x="285840" y="79200"/>
            <a:ext cx="9686880" cy="6350040"/>
            <a:chOff x="285840" y="79200"/>
            <a:chExt cx="9686880" cy="6350040"/>
          </a:xfrm>
        </p:grpSpPr>
        <p:grpSp>
          <p:nvGrpSpPr>
            <p:cNvPr id="1117" name="그룹 11"/>
            <p:cNvGrpSpPr/>
            <p:nvPr/>
          </p:nvGrpSpPr>
          <p:grpSpPr>
            <a:xfrm>
              <a:off x="285840" y="713880"/>
              <a:ext cx="9686880" cy="2481120"/>
              <a:chOff x="285840" y="713880"/>
              <a:chExt cx="9686880" cy="2481120"/>
            </a:xfrm>
          </p:grpSpPr>
          <p:sp>
            <p:nvSpPr>
              <p:cNvPr id="1118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9" name="Text Box 6"/>
              <p:cNvSpPr/>
              <p:nvPr/>
            </p:nvSpPr>
            <p:spPr>
              <a:xfrm>
                <a:off x="357120" y="1071000"/>
                <a:ext cx="961560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use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bandonmen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eglect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착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exploitation)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altreatment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적절한 처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21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22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23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4" name="Text Box 6"/>
              <p:cNvSpPr/>
              <p:nvPr/>
            </p:nvSpPr>
            <p:spPr>
              <a:xfrm>
                <a:off x="357120" y="3714480"/>
                <a:ext cx="850104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5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8"/>
          <p:cNvGrpSpPr/>
          <p:nvPr/>
        </p:nvGrpSpPr>
        <p:grpSpPr>
          <a:xfrm>
            <a:off x="285840" y="500040"/>
            <a:ext cx="8694720" cy="5857920"/>
            <a:chOff x="285840" y="500040"/>
            <a:chExt cx="8694720" cy="5857920"/>
          </a:xfrm>
        </p:grpSpPr>
        <p:sp>
          <p:nvSpPr>
            <p:cNvPr id="1127" name="AutoShape 2"/>
            <p:cNvSpPr/>
            <p:nvPr/>
          </p:nvSpPr>
          <p:spPr>
            <a:xfrm>
              <a:off x="285840" y="928440"/>
              <a:ext cx="869472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46836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적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부양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31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2" name="Text Box 6"/>
            <p:cNvSpPr/>
            <p:nvPr/>
          </p:nvSpPr>
          <p:spPr>
            <a:xfrm>
              <a:off x="356760" y="907920"/>
              <a:ext cx="8573040" cy="49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8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2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학대 등의 순으로 학대 경험 많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,259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학대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14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.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차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4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2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9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구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3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3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5" name="직사각형 19"/>
            <p:cNvSpPr/>
            <p:nvPr/>
          </p:nvSpPr>
          <p:spPr>
            <a:xfrm>
              <a:off x="285480" y="71280"/>
              <a:ext cx="564372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6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7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8" name="Text Box 6"/>
              <p:cNvSpPr/>
              <p:nvPr/>
            </p:nvSpPr>
            <p:spPr>
              <a:xfrm>
                <a:off x="464760" y="983880"/>
                <a:ext cx="878724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옴부즈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ombudsma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9" name="직사각형 14"/>
              <p:cNvSpPr/>
              <p:nvPr/>
            </p:nvSpPr>
            <p:spPr>
              <a:xfrm>
                <a:off x="285480" y="35676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4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43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4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5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6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7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92%, 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0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스마트폰 보유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6%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2020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그룹 14"/>
          <p:cNvGrpSpPr/>
          <p:nvPr/>
        </p:nvGrpSpPr>
        <p:grpSpPr>
          <a:xfrm>
            <a:off x="250920" y="0"/>
            <a:ext cx="8750160" cy="6930360"/>
            <a:chOff x="250920" y="0"/>
            <a:chExt cx="8750160" cy="6930360"/>
          </a:xfrm>
        </p:grpSpPr>
        <p:grpSp>
          <p:nvGrpSpPr>
            <p:cNvPr id="1149" name="그룹 11"/>
            <p:cNvGrpSpPr/>
            <p:nvPr/>
          </p:nvGrpSpPr>
          <p:grpSpPr>
            <a:xfrm>
              <a:off x="285120" y="500040"/>
              <a:ext cx="8715960" cy="3458880"/>
              <a:chOff x="285120" y="500040"/>
              <a:chExt cx="871596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120" y="857160"/>
                <a:ext cx="8644680" cy="3072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48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완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48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50920" y="4000680"/>
              <a:ext cx="8678880" cy="2929680"/>
              <a:chOff x="250920" y="4000680"/>
              <a:chExt cx="8678880" cy="292968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120" y="4358160"/>
                <a:ext cx="864468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50920" y="4365720"/>
                <a:ext cx="8572680" cy="25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장애인 응급안전안심서비스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인공지능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AI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사물인터넷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IoT)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로봇 등을 이용한 노인돌봄 장비 개발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Clr>
                    <a:srgbClr val="0e2947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6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와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9276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안전사고와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5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7.2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2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응속도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45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52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천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면허 반환 보상강화 등이 요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범죄와 범죄피해에 대한 사회적 관심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3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7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9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1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58800"/>
              <a:chOff x="285480" y="2298600"/>
              <a:chExt cx="8712360" cy="155880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0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36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중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5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재산범죄와 보이스피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해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423120"/>
            <a:chOff x="0" y="0"/>
            <a:chExt cx="9215280" cy="642312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856080"/>
              <a:chOff x="252360" y="857160"/>
              <a:chExt cx="8962920" cy="85608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85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 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205000"/>
              <a:ext cx="8820000" cy="4218120"/>
              <a:chOff x="252360" y="2205000"/>
              <a:chExt cx="8820000" cy="42181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205000"/>
                <a:ext cx="8820000" cy="4218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323640" y="2276280"/>
                <a:ext cx="8643960" cy="41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명치료 중단으로 자연스러운 죽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와 생명유지가 무의미하다고 판단되는 사람을 직간접적 방법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통 없이 죽음에 이르게 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177336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220920"/>
              <a:ext cx="8501400" cy="19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들은 장례준비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전연명의료 의향서 작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준비교육 등 좋은 죽음을 위한 준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좋은 죽음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91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삶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”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1%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9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1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전체인구 자살사망률의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.62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배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8.4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 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 침체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9"/>
          <p:cNvGrpSpPr/>
          <p:nvPr/>
        </p:nvGrpSpPr>
        <p:grpSpPr>
          <a:xfrm>
            <a:off x="252360" y="428760"/>
            <a:ext cx="8891640" cy="6000480"/>
            <a:chOff x="252360" y="428760"/>
            <a:chExt cx="8891640" cy="6000480"/>
          </a:xfrm>
        </p:grpSpPr>
        <p:sp>
          <p:nvSpPr>
            <p:cNvPr id="1021" name="AutoShape 2"/>
            <p:cNvSpPr/>
            <p:nvPr/>
          </p:nvSpPr>
          <p:spPr>
            <a:xfrm>
              <a:off x="252360" y="928440"/>
              <a:ext cx="882036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2" name="Text Box 25"/>
            <p:cNvSpPr/>
            <p:nvPr/>
          </p:nvSpPr>
          <p:spPr>
            <a:xfrm>
              <a:off x="428400" y="993600"/>
              <a:ext cx="8715600" cy="52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로의 전환 과정에서 홀로 죽어서 시신이 방치되는 죽음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개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척 등 주변사람들과 단절된 채 홀로 사는 사람이 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병사 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혼자 임종을 맞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신이 일정한 시간이 흐른 뒤 발견되는 죽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유형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97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독사 통계자료 생산되지 않아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 수로 추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02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무연고 사망자는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2,880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명으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17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부터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4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간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천명 이상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연고 사망자의 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2%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정도가 노인이나 중장년층 무연고 사망자도 다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미혼 독신가구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혼 증가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주말부부와 기러기 가족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가족과의 별거와 해체 등의 요인이 작용하므로</a:t>
              </a:r>
              <a:r>
                <a:rPr b="0" lang="en-US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에 관계없이 증가 예측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과 해결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동체사회 와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나홀로 사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지연을 위한 대책 수립 집행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제도 강화 및 복지사각지대의 중장년층 대책 강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행 고독사 대응방안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맞춤돌봄서비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자 장례지원서비스 등 실시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민간기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연고 사망자의 유류품 정리 회사 운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 예방 기본계획 수립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독사위험자 지원대책 등 규정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3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고독사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4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5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6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7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망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훔치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    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하여 사랑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 단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00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8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30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3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4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2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현재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5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6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43:40Z</dcterms:modified>
  <cp:revision>45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